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4A3-453C-4474-AB93-AB7C8DAD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1CE-95C7-4F81-AB8D-CEEB4F67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005-CC99-433C-AE95-EFB4E28A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FF9-E289-4467-A0E6-4EBEAF36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407-0CA6-4858-9D90-A172E229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0AE2-B54E-40DC-BA62-F387C3CC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3887-3022-4E19-95FB-CE94F273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09D4-9EF1-4C42-B333-09F1BE73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001F-61A9-464A-A98D-410D442D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7065-B7B4-4B31-9AD0-FFB5CE49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C2D6-D8E0-4E74-B2D9-E64D123A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EEB-C5B7-4381-8477-6C61F28C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A68F-5047-4C25-9BB2-8A59B417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684F-70D7-458A-A48A-FB2AFDC3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913-77C6-4D5A-88D1-9C542AB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DBFB-8561-4F4D-BFD8-4A954244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67AF-2F58-41EB-9BD0-D5BF0FB2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FDE-D17D-4305-9B50-D7D20B55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5E7-CF30-4243-9F5E-CAEDC701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728-FA84-4A52-B709-5C8F83E0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3A2-F445-4358-9056-ED9B1E3D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FDA-4773-4351-BD89-08A96508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BBB-F2D1-46A2-86BD-346AE8DC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D13-56F0-4165-BCDA-8B4EF61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CABF-A3CE-44C5-8BDD-2A83331813BF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5D6C-7EC9-4FF4-BCC3-D7F15CF000D5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979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82979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4760" y="4280040"/>
            <a:ext cx="5638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3:09:15Z</dcterms:created>
  <dc:creator>Bonnie Ritchey</dc:creator>
  <dc:description/>
  <dc:language>en-US</dc:language>
  <cp:lastModifiedBy>Bonnie Ritchey</cp:lastModifiedBy>
  <dcterms:modified xsi:type="dcterms:W3CDTF">2004-05-21T03:10:21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01033</vt:lpwstr>
  </property>
</Properties>
</file>